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98A-BE59-496F-A5C1-6789505D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942-545B-47D7-8C22-B7675563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84B-C579-4ED2-956D-8D28071C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7C7-AB79-46C3-B635-60A0D106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2EB-540C-4AA6-A692-3FA6D3B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D11-2877-4267-8086-F625095D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3E9-C5A9-45D6-8652-4D44EBB8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AC0D-DF78-4A5F-B650-B49D54E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389-9C42-42CF-8AD2-D1734178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B9E-1ABC-4702-9823-2066664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E35-E07B-4329-BFDB-12010A3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ABF-36AE-4858-9612-A9CD08B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BB1-1887-45D5-9953-BF3EEC94D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514240" y="228600"/>
            <a:ext cx="407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ocial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12360" y="2362320"/>
            <a:ext cx="744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ame: 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97280" y="213372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09480" y="36417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swer the following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was the colony named Jamest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44792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honor King James of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did the queen say could set up England’s first colony in North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066680" y="44956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r Walter Rale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aleigh pic 2.jpg"/>
          <p:cNvPicPr/>
          <p:nvPr/>
        </p:nvPicPr>
        <p:blipFill>
          <a:blip r:embed="rId1"/>
          <a:stretch/>
        </p:blipFill>
        <p:spPr>
          <a:xfrm>
            <a:off x="5791320" y="2057400"/>
            <a:ext cx="2133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ere most of the colonists that came to Jamestown looking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895480" y="3124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l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47920" y="533520"/>
            <a:ext cx="69339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ere 3 problems as Jamestown develop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209680" y="21258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209680" y="3225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ease carrying mosqui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209680" y="429264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ian attacks because the colonists were taking Indian lands and destroying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happened to the people in the English colony on Roanoke is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066680" y="274464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y disappeared, never to be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21932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as the only clue left behind by the people from the “lost colony” of Roano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066680" y="4724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word “CROATOAN” carved on wooden p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croatoan2.jpg"/>
          <p:cNvPicPr/>
          <p:nvPr/>
        </p:nvPicPr>
        <p:blipFill>
          <a:blip r:embed="rId1"/>
          <a:stretch/>
        </p:blipFill>
        <p:spPr>
          <a:xfrm>
            <a:off x="5859360" y="2584440"/>
            <a:ext cx="1913040" cy="198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6477120" y="2819520"/>
            <a:ext cx="4572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Indian princess who, according to legend, saved Captain Smith’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828800" y="3448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ocahont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as Captain John Smith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unbreakable r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44792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yone who did not work did not e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47920" y="533520"/>
            <a:ext cx="69339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Wampanoag Indians befriended the Pilgrims and helped them survive.  What eventually happened to these neighborly Ind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33720" y="38019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rced off their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133720" y="471636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illed or captured in f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33720" y="56307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ied from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066680" y="3962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en Elizabeth I was England’s mon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6668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England’s queen who encouraged the exploration and colonization of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eliz1-ermine.jpg"/>
          <p:cNvPicPr/>
          <p:nvPr/>
        </p:nvPicPr>
        <p:blipFill>
          <a:blip r:embed="rId1"/>
          <a:stretch/>
        </p:blipFill>
        <p:spPr>
          <a:xfrm>
            <a:off x="7086600" y="2133720"/>
            <a:ext cx="1403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505320" y="31240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a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y the end of the first year, how many colonists in Jamestown had d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id the Mayflower Pilgrims go to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447920" y="228600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find the freedom to follow their ow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1066680" y="213516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066680" y="5335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chosen to lead the colony of Roano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money left over after everything has been paid for in a busi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9548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rof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066680" y="53352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ive 3 reasons the English people were coming to the Amer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773720" y="274320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alth (rich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778400" y="3801960"/>
            <a:ext cx="49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eap or fre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777320" y="47926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708200" y="5630760"/>
            <a:ext cx="74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dventure; work; to start a new and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ompany started the trading post and colony of Jamestown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9718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Virginia Company of London started Jamestown to make a 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4300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first child born of English parents in North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43000" y="3276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irginia D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447920" y="533520"/>
            <a:ext cx="6933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did Tisquantum (Squanto) help keep the Pilgrims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133720" y="28116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came interpr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133720" y="39625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wed Pilgrims where to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133720" y="480060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wed Pilgrims how to pl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447920" y="53352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 what year was England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ermanent colony of Jamestown, Virginia, establish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76720" y="360036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60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England’s most famous explorer, and how did he escape the Span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066680" y="38862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ancis Drake; he sailed around the world to escape Spanish wa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nicholas_hilliard_007_mid.jpg"/>
          <p:cNvPicPr/>
          <p:nvPr/>
        </p:nvPicPr>
        <p:blipFill>
          <a:blip r:embed="rId1"/>
          <a:stretch/>
        </p:blipFill>
        <p:spPr>
          <a:xfrm>
            <a:off x="6699240" y="205740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447920" y="5335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 what year was the colony of Plymouth, Massachusetts, established by the Mayflower Pilgri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200400" y="367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6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447920" y="533520"/>
            <a:ext cx="693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rop became the “gold” that made Jamestown rich and England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ermanent colony in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438280" y="4572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obac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became the leader of Jamest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828800" y="47242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ptain John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john smith 1.jpg"/>
          <p:cNvPicPr/>
          <p:nvPr/>
        </p:nvPicPr>
        <p:blipFill>
          <a:blip r:embed="rId1"/>
          <a:stretch/>
        </p:blipFill>
        <p:spPr>
          <a:xfrm>
            <a:off x="4984920" y="1523880"/>
            <a:ext cx="24825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ship carried the Pilgrims to Plymou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600200" y="469260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Mayflo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MAYFLOWER 1.jpg"/>
          <p:cNvPicPr/>
          <p:nvPr/>
        </p:nvPicPr>
        <p:blipFill>
          <a:blip r:embed="rId1"/>
          <a:stretch/>
        </p:blipFill>
        <p:spPr>
          <a:xfrm>
            <a:off x="6095880" y="1981080"/>
            <a:ext cx="17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447920" y="533520"/>
            <a:ext cx="693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keep order, the Mayflower Pilgrims signed an agreement to make laws for the good of the colony and to obey those laws.  What is this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xample of self-rule by colonists in the America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3880" y="50976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371600" y="53352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, do you think, Tisquantum (Squanto) was willing to help the Pilgrims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304812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squantum was probably treated well by the English after being a slave under Spanish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did the Indian Samoset introduce to the Pilgri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447920" y="4876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squantum, or Squ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Squanto 1.jpg"/>
          <p:cNvPicPr/>
          <p:nvPr/>
        </p:nvPicPr>
        <p:blipFill>
          <a:blip r:embed="rId1"/>
          <a:srcRect l="0" t="0" r="0" b="7891"/>
          <a:stretch/>
        </p:blipFill>
        <p:spPr>
          <a:xfrm>
            <a:off x="3813120" y="2057400"/>
            <a:ext cx="1749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06668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gland’s first colony was set up on Roanoke, an island just off the coast of what is today which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43200" y="5029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orth Caro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roanoke.jpg"/>
          <p:cNvPicPr/>
          <p:nvPr/>
        </p:nvPicPr>
        <p:blipFill>
          <a:blip r:embed="rId1"/>
          <a:stretch/>
        </p:blipFill>
        <p:spPr>
          <a:xfrm>
            <a:off x="5181480" y="2666880"/>
            <a:ext cx="2971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gland defeated Spain’s fleet of war ships.  What is a fleet of war ship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219320" y="32767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Spanish_Armada.jpg"/>
          <p:cNvPicPr/>
          <p:nvPr/>
        </p:nvPicPr>
        <p:blipFill>
          <a:blip r:embed="rId1"/>
          <a:stretch/>
        </p:blipFill>
        <p:spPr>
          <a:xfrm>
            <a:off x="4495680" y="274320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name is given to a person who makes a journey for a religious rea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219320" y="3581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ilgri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pilgrims 1.gif"/>
          <p:cNvPicPr/>
          <p:nvPr/>
        </p:nvPicPr>
        <p:blipFill>
          <a:blip r:embed="rId1"/>
          <a:stretch/>
        </p:blipFill>
        <p:spPr>
          <a:xfrm>
            <a:off x="4876920" y="2944800"/>
            <a:ext cx="30286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me the state where Plymouth is loc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066680" y="2362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assachuset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447920" y="53352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y the end of the first winter, how many of the Plymouth colonists had d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276720" y="36766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a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66680" y="5335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was England attacking Spanish shi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14400" y="20574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steal the gold and other riches the Spanish treasure ships were carrying from the Americas to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23:56:41Z</dcterms:created>
  <dc:creator>Michele Franck</dc:creator>
  <dc:description/>
  <dc:language>en-US</dc:language>
  <cp:lastModifiedBy>Michele Franck</cp:lastModifiedBy>
  <dcterms:modified xsi:type="dcterms:W3CDTF">2011-05-02T00:57:40Z</dcterms:modified>
  <cp:revision>23</cp:revision>
  <dc:subject/>
  <dc:title>Slide 1</dc:title>
</cp:coreProperties>
</file>